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909F-6CD8-4FEE-B815-16B3036D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B88-5200-4C99-B9EA-7E11E6DD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99B-250B-478C-BFBD-B3C527F0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9D08-9599-4DB6-A4DC-063379F1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4EA-9439-4AAD-BF37-BA679B5B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707-E59C-4950-8D0D-E291F82E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10E-EA09-43BE-9147-2A9518D8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698-FA25-4526-AD4E-6A0A8147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0C5-3B99-406D-9649-F21B9067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3079-A742-423E-816C-B295647B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C8B-AA26-47B6-828D-5CEBBF55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177-7FC5-49E2-AF9F-2B47592A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8CC0D-710B-41B0-8642-B337936758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76280" y="117360"/>
            <a:ext cx="822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476280" y="117360"/>
            <a:ext cx="822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he number of prot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different 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you get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he number of elect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lectrically charged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you get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476280" y="117360"/>
            <a:ext cx="8223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he number of prot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different 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you get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he number of elect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lectrically charged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you get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476280" y="117360"/>
            <a:ext cx="8223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he number of prot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different 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you get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he number of elect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lectrically charged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you get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he number of neut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n atom with a different atomic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you get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isot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476280" y="117360"/>
            <a:ext cx="8223120" cy="67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top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s of an element with the same number of protons but different number of neu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mass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p, 0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ter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p, 1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t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p, 2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228600" y="117360"/>
            <a:ext cx="872316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oisotop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topes that are unstable and will decay (break down into smaller atoms), emitting radiation as their nuclei spl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He (alpha partic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Straight Arrow Connector 2"/>
          <p:cNvCxnSpPr/>
          <p:nvPr/>
        </p:nvCxnSpPr>
        <p:spPr>
          <a:xfrm>
            <a:off x="2581200" y="3373200"/>
            <a:ext cx="687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228600" y="117360"/>
            <a:ext cx="872316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oisotop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topes that are unstable and will decay (break down into smaller atoms), emitting radiation as their nuclei spl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He (alpha partic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oacti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le of spontaneously emitting 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Straight Arrow Connector 2"/>
          <p:cNvCxnSpPr/>
          <p:nvPr/>
        </p:nvCxnSpPr>
        <p:spPr>
          <a:xfrm>
            <a:off x="2581200" y="3373200"/>
            <a:ext cx="687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228600" y="117360"/>
            <a:ext cx="8723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erage Atomic Mas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weighted average of all the element's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228600" y="117360"/>
            <a:ext cx="872316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erage Atomic Mas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weighted average of all the element's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o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nd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o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n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of 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of 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228600" y="4497480"/>
            <a:ext cx="8723160" cy="85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228600" y="117360"/>
            <a:ext cx="8723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Natural argon contains 99.60% Ar-40 (mass=39.96u), 0.34% Ar-36 (mass=35.97u), and 0.06% Ar-38 (mass=37.96u).  Calculate the average atomic mass of arg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228600" y="117360"/>
            <a:ext cx="872316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Natural argon contains 99.60% Ar-40 (mass=39.96u), 0.34% Ar-36 (mass=35.97u), and 0.06% Ar-38 (mass=37.96u).  Calculate the average atomic mass of arg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-40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39.96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99.60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-3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35.97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.34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-3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37.96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.06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>
            <a:off x="476280" y="117360"/>
            <a:ext cx="8223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est particle of an element that still retains the identity and properties of th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228600" y="117360"/>
            <a:ext cx="8723160" cy="49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Natural argon contains 99.60% Ar-40 (mass=39.96u), 0.34% Ar-36 (mass=35.97u), and 0.06% Ar-38 (mass=37.96u).  Calculate the average atomic mass of arg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-40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9.96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99.6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-3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5.97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 0.3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-3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 37.96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 0.06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know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atomic mass (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3"/>
          <p:cNvSpPr/>
          <p:nvPr/>
        </p:nvSpPr>
        <p:spPr>
          <a:xfrm>
            <a:off x="228600" y="117360"/>
            <a:ext cx="8723160" cy="48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atural argon contains 99.60% Ar-40 (mass=39.96u), 0.34% Ar-36 (mass=35.97u), and 0.06% Ar-38 (mass=37.96u).  Calculate the average atomic mass of arg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-40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9.96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 99.6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-3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5.97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0.3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-3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7.96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0.06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know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atomic mass (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A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A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228600" y="117360"/>
            <a:ext cx="8723160" cy="62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atural argon contains 99.60% Ar-40 (mass=39.96u), 0.34% Ar-36 (mass=35.97u), and 0.06% Ar-38 (mass=37.96u).  Calculate the average atomic mass of arg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-40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9.96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99.6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-3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5.97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0.3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-3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7.96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0.06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know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atomic mass (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+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+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v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39.96u x 0.9660) + (35.97u x 0.0034) + (37.96u x 0.0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39.8u + 0.12u + 0.02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39.94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228600" y="117360"/>
            <a:ext cx="87231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t's your tu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 p 19 #1-4,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476280" y="117360"/>
            <a:ext cx="82231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est particle of an element that still retains the identity and properties of th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atomic Partic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76280" y="3228840"/>
          <a:ext cx="8223120" cy="2500560"/>
        </p:xfrm>
        <a:graphic>
          <a:graphicData uri="http://schemas.openxmlformats.org/drawingml/2006/table">
            <a:tbl>
              <a:tblPr/>
              <a:tblGrid>
                <a:gridCol w="2741760"/>
                <a:gridCol w="2739960"/>
                <a:gridCol w="27414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s (u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ctric Char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n (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on (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 (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 (~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476280" y="117360"/>
            <a:ext cx="8223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ic Number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rotons (p) in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lso the number of electrons 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 a neutral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476280" y="117360"/>
            <a:ext cx="82231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ic Number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rotons (p) in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lso the number of electrons 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 a neutral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s Numb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umber of protons (p) &amp; neutrons (n) in the nucle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. mass number = p + 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he atomic mass rounded to a whole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476280" y="117360"/>
            <a:ext cx="82231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ic Number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rotons (p) in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lso the number of electrons 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 a neutral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s Numb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umber of protons (p) &amp; neutrons (n) in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. mass number = p +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he atomic mass rounded to a whole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101680" y="1895400"/>
            <a:ext cx="1957680" cy="239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476280" y="117360"/>
            <a:ext cx="82231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tope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Straight Arrow Connector 5"/>
          <p:cNvCxnSpPr/>
          <p:nvPr/>
        </p:nvCxnSpPr>
        <p:spPr>
          <a:xfrm flipH="1">
            <a:off x="2873160" y="1895040"/>
            <a:ext cx="1645200" cy="583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Straight Arrow Connector 6"/>
          <p:cNvCxnSpPr/>
          <p:nvPr/>
        </p:nvCxnSpPr>
        <p:spPr>
          <a:xfrm flipH="1" flipV="1">
            <a:off x="3847320" y="3060360"/>
            <a:ext cx="670680" cy="146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7"/>
          <p:cNvCxnSpPr/>
          <p:nvPr/>
        </p:nvCxnSpPr>
        <p:spPr>
          <a:xfrm flipH="1" flipV="1">
            <a:off x="2873160" y="3698640"/>
            <a:ext cx="1645200" cy="77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476280" y="117360"/>
            <a:ext cx="822312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isotope notation for the following el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P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476280" y="117360"/>
            <a:ext cx="8223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he number of prot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different 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you get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2:46:56Z</dcterms:created>
  <dc:creator>J Curtis</dc:creator>
  <dc:description/>
  <dc:language>en-US</dc:language>
  <cp:lastModifiedBy>J Curtis</cp:lastModifiedBy>
  <dcterms:modified xsi:type="dcterms:W3CDTF">2013-02-13T14:41:16Z</dcterms:modified>
  <cp:revision>40</cp:revision>
  <dc:subject/>
  <dc:title>PowerPoint Presentation</dc:title>
</cp:coreProperties>
</file>